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DF4AE-A4F7-43FA-AFBA-8A5055D75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C87F2-655D-4CCC-8E0B-2A1ECEBDE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8F223-24A3-4F39-9963-BE360F2CB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D0143-D47C-4D72-B221-9D2727A31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7EB50-3DF2-4750-8B30-7772BB676B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86400-0EB4-47E9-BD16-FE861C002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DC57B-D803-4FAD-9AE0-C89149ADE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13629-51E9-42D0-8EFF-CEE186865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14B63-8893-460E-B20A-F882BFEA7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473BA-C8F5-4D7C-AC4A-80C46242D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EA8CA-930B-4AC9-A67D-D6BB40D1F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84DF2-A328-47AB-8D65-C7592C922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CEDF7-7C25-4C55-8509-A51DE9BAF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11EC8-D3B6-45DD-83B5-AA4F56BB9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2DA5D-0A5F-4ED0-BC98-1A432E1B2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D97276-437B-4985-B444-7E5A50744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507B7-B9B2-49D6-A173-E88B129A54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85B263-2EC5-461D-98A3-34C47AA7D0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B35F50-0167-4F35-B771-14C84B96CE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12D9BA-F677-48D2-9CE2-A92340D48E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226025-66FF-4963-91D6-88BB5D46D1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3E7591-A11C-4C52-BF5D-209235EDDF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53C31-C3CF-42DB-9FB0-7ADC2DC92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865B30-A750-4F15-93F8-A7201056EB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DC89D0-30EF-483B-AB07-CB4DFAA13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EEBBB-3107-40A3-AA2F-66B2AC3E5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44E0F1-2E15-463E-B229-E18DFF97F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AE726A-778C-4410-A133-BAC7F1C503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8105E2-4DCA-4C6B-ACE2-6B8DD68707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9847B7-8566-4742-BC80-8B3799B482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65A660-16DF-47C8-922A-3D5D7F6BBE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6837AC-AB95-4B77-B537-B8D062653B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8493ED-19B8-4EE7-845D-92445CB4BD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218A9-2D85-45B7-AC36-CBDD98B09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3BA4DE-06EF-406C-9014-FC1A6CB3FA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1FD4E7-524F-44D4-B610-394F5552B4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D83A04-22A1-4B75-BAB8-D1874C1387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1068B4-CC54-4901-B70B-3B6AFD8055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C06F82-D9EF-46FB-B8E2-2DCD2C5A1E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FFD628-63B5-43A7-B453-B0E8197398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4EFB43-B6D4-4B4B-A280-F8A18885CB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473D00-561C-40D0-8927-F1E5E5DF81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64E359-4AC6-46DE-B547-3B077D67FF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B4D4E-1554-4276-925E-76F9A5D45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E6CF8-C986-48E1-915D-F8CB7436A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781E6-4CAE-4375-A449-188FC495D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7976C-FB0A-4CD4-9D60-FC4AAC4AF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BF808-2541-4CC8-A0BE-51AD76A86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CEC8-C476-4A51-A723-4A5CE638A7A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3/11/2009</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 Week2- Lab2</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F140-F206-4BBA-9E13-7FC319A58A93}"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3/11/2009</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 Week2- Lab2</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EC99B-93A1-4621-BE3B-4A6F764C2167}"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ADEC-9826-4103-AC64-0D1CB10A3F3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03360" y="719280"/>
            <a:ext cx="7864200" cy="2017440"/>
          </a:xfrm>
          <a:prstGeom prst="rect">
            <a:avLst/>
          </a:prstGeom>
          <a:ln w="0">
            <a:noFill/>
          </a:ln>
        </p:spPr>
      </p:pic>
      <p:sp>
        <p:nvSpPr>
          <p:cNvPr id="196" name="PlaceHolder 1"/>
          <p:cNvSpPr>
            <a:spLocks noGrp="1"/>
          </p:cNvSpPr>
          <p:nvPr>
            <p:ph type="subTitle"/>
          </p:nvPr>
        </p:nvSpPr>
        <p:spPr>
          <a:xfrm>
            <a:off x="533160" y="2819520"/>
            <a:ext cx="7854840" cy="2666880"/>
          </a:xfrm>
          <a:prstGeom prst="rect">
            <a:avLst/>
          </a:prstGeom>
          <a:noFill/>
          <a:ln w="0">
            <a:noFill/>
          </a:ln>
        </p:spPr>
        <p:txBody>
          <a:bodyPr lIns="0" r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ceff"/>
                </a:solidFill>
                <a:latin typeface="Constantia"/>
              </a:rPr>
              <a:t>Week 1 Lab2</a:t>
            </a:r>
            <a:endParaRPr b="0" lang="en-US" sz="4000" spc="-1" strike="noStrike">
              <a:solidFill>
                <a:srgbClr val="ffffff"/>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ceff"/>
                </a:solidFill>
                <a:latin typeface="Constantia"/>
              </a:rPr>
              <a:t>Introduction</a:t>
            </a:r>
            <a:endParaRPr b="0" lang="en-US" sz="40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fafc"/>
                </a:solidFill>
                <a:latin typeface="Constantia"/>
              </a:rPr>
              <a:t>Dina A. Said</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fafc"/>
                </a:solidFill>
                <a:latin typeface="Constantia"/>
              </a:rPr>
              <a:t>dasaid@ucalgary.ca</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odify the previous program to print the sum of each iteration in the loop</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4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4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B73D-F923-4333-B697-0C61371C773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9" name="TextBox 6"/>
          <p:cNvSpPr/>
          <p:nvPr/>
        </p:nvSpPr>
        <p:spPr>
          <a:xfrm>
            <a:off x="1913760" y="2971800"/>
            <a:ext cx="2206440" cy="1465560"/>
          </a:xfrm>
          <a:prstGeom prst="rect">
            <a:avLst/>
          </a:prstGeom>
          <a:noFill/>
          <a:ln w="9360">
            <a:solidFill>
              <a:srgbClr val="04617b"/>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 in [1, 2, 3,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m = Sum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Print Su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 function that takes two parameters; start and end. Then, it scans all the numbers  from start till end inclusive and prints only numbers that are multipliers of 3</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 mul3(start, end):</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nt “Numbers that are multipliers of 3 are:”</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x in range(start,end+1):</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x%3==0):</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nt x</a:t>
            </a:r>
            <a:endParaRPr b="0" lang="en-US" sz="24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e your function to print all multipliers of 3 in range (0, 30) and (60,90)</a:t>
            </a:r>
            <a:endParaRPr b="0" lang="en-US" sz="2600" spc="-1" strike="noStrike">
              <a:solidFill>
                <a:srgbClr val="000000"/>
              </a:solidFill>
              <a:latin typeface="Constantia"/>
            </a:endParaRPr>
          </a:p>
        </p:txBody>
      </p:sp>
      <p:sp>
        <p:nvSpPr>
          <p:cNvPr id="25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5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5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8E42-7F80-4DC7-9EF6-4234B12C20D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5" name="Rectangle 6"/>
          <p:cNvSpPr/>
          <p:nvPr/>
        </p:nvSpPr>
        <p:spPr>
          <a:xfrm>
            <a:off x="762120" y="3276720"/>
            <a:ext cx="6095880" cy="20574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odify the mul3 function to print the summation of numbers in range that are not multipliers of 3</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or a range (0,10), your output should be like this</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umber that are multipliers of 3 are:</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m of numbers that are not multipliers of 3 is 37</a:t>
            </a:r>
            <a:endParaRPr b="0" lang="en-US" sz="24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5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6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02CB-3EBD-4F3D-B0B8-E1A3C9C9E88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1" name="Rectangle 6"/>
          <p:cNvSpPr/>
          <p:nvPr/>
        </p:nvSpPr>
        <p:spPr>
          <a:xfrm>
            <a:off x="914400" y="3276720"/>
            <a:ext cx="6934320" cy="266688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swers</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f mul3(start, end):</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Numbers that are multipliers of 3 ar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um=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for x in range(start,end+1):</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if (x%3==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x</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ls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um=sum + x</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Sum of numbers that are not multipliers of 3 is", sum</a:t>
            </a:r>
            <a:endParaRPr b="0" lang="en-US" sz="2600" spc="-1" strike="noStrike">
              <a:solidFill>
                <a:srgbClr val="000000"/>
              </a:solidFill>
              <a:latin typeface="Constantia"/>
            </a:endParaRPr>
          </a:p>
        </p:txBody>
      </p:sp>
      <p:sp>
        <p:nvSpPr>
          <p:cNvPr id="26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6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6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15E9-CDC4-413C-91F8-D64009DAA24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 function that takes two parameters, name and age. Then, print the name (only once) and age after 10, 20, 30 years (You should use loops). Your output should look the same as the following for name=Dina and age=27</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na</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ge after 10  years= 37</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ge after 20  years= 47</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ge after 30  years= 57</a:t>
            </a:r>
            <a:endParaRPr b="0" lang="en-US" sz="2400" spc="-1" strike="noStrike">
              <a:solidFill>
                <a:srgbClr val="000000"/>
              </a:solidFill>
              <a:latin typeface="Constantia"/>
            </a:endParaRPr>
          </a:p>
        </p:txBody>
      </p:sp>
      <p:sp>
        <p:nvSpPr>
          <p:cNvPr id="26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7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7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099C1-00B2-4646-B390-52A16EA13D6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2" name="Rectangle 6"/>
          <p:cNvSpPr/>
          <p:nvPr/>
        </p:nvSpPr>
        <p:spPr>
          <a:xfrm>
            <a:off x="762120" y="3581280"/>
            <a:ext cx="3657600" cy="198144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swer</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You think in your program as follows:</a:t>
            </a:r>
            <a:endParaRPr b="0" lang="en-US" sz="26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want to print </a:t>
            </a:r>
            <a:endParaRPr b="0" lang="en-US" sz="24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ge+10</a:t>
            </a:r>
            <a:endParaRPr b="0" lang="en-US" sz="21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ge+20</a:t>
            </a:r>
            <a:endParaRPr b="0" lang="en-US" sz="21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ge+30</a:t>
            </a:r>
            <a:endParaRPr b="0" lang="en-US" sz="21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fore, I should define x to be in range (10,20,30)</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I will make a for loop for this range</a:t>
            </a:r>
            <a:endParaRPr b="0" lang="en-US" sz="2400" spc="-1" strike="noStrike">
              <a:solidFill>
                <a:srgbClr val="000000"/>
              </a:solidFill>
              <a:latin typeface="Constantia"/>
            </a:endParaRPr>
          </a:p>
          <a:p>
            <a:pPr lvl="3" marL="1187280" indent="-209520">
              <a:lnSpc>
                <a:spcPct val="10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x in (10,20,30)</a:t>
            </a:r>
            <a:endParaRPr b="0" lang="en-US" sz="20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w, inside this loop, I’ll print age+x</a:t>
            </a:r>
            <a:endParaRPr b="0" lang="en-US" sz="2400" spc="-1" strike="noStrike">
              <a:solidFill>
                <a:srgbClr val="000000"/>
              </a:solidFill>
              <a:latin typeface="Constantia"/>
            </a:endParaRPr>
          </a:p>
          <a:p>
            <a:pPr lvl="3" marL="1187280" indent="-209520">
              <a:lnSpc>
                <a:spcPct val="10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7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7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7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7342-00AD-4E9F-A7D3-EE686DE3742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f NameAge(name,ag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nam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for x in (10,20,3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Age after", x, "years=", age+x</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Times New Roman"/>
              </a:rPr>
              <a:t>Not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To execute this function, you should writ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NameAge(“Dina”,27)</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is is because Dina is a string, therefore, you should use quotes.</a:t>
            </a:r>
            <a:endParaRPr b="0" lang="en-US" sz="2600" spc="-1" strike="noStrike">
              <a:solidFill>
                <a:srgbClr val="000000"/>
              </a:solidFill>
              <a:latin typeface="Constantia"/>
            </a:endParaRPr>
          </a:p>
        </p:txBody>
      </p:sp>
      <p:sp>
        <p:nvSpPr>
          <p:cNvPr id="27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8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8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03DD-73B1-43C5-8B9A-DF3E4D0C3BB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82" name="Rectangle 6"/>
          <p:cNvSpPr/>
          <p:nvPr/>
        </p:nvSpPr>
        <p:spPr>
          <a:xfrm>
            <a:off x="533520" y="1981080"/>
            <a:ext cx="5867280" cy="18288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view</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 function named Square that:</a:t>
            </a:r>
            <a:endParaRPr b="0" lang="en-US" sz="2600" spc="-1" strike="noStrike">
              <a:solidFill>
                <a:srgbClr val="000000"/>
              </a:solidFill>
              <a:latin typeface="Constantia"/>
            </a:endParaRPr>
          </a:p>
          <a:p>
            <a:pPr lvl="1" marL="851040" indent="-457200">
              <a:lnSpc>
                <a:spcPct val="100000"/>
              </a:lnSpc>
              <a:spcBef>
                <a:spcPts val="601"/>
              </a:spcBef>
              <a:buClr>
                <a:srgbClr val="0b5395"/>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ts the length of the square to be 6</a:t>
            </a:r>
            <a:endParaRPr b="0" lang="en-US" sz="2400" spc="-1" strike="noStrike">
              <a:solidFill>
                <a:srgbClr val="000000"/>
              </a:solidFill>
              <a:latin typeface="Constantia"/>
            </a:endParaRPr>
          </a:p>
          <a:p>
            <a:pPr lvl="1" marL="851040" indent="-457200">
              <a:lnSpc>
                <a:spcPct val="100000"/>
              </a:lnSpc>
              <a:spcBef>
                <a:spcPts val="601"/>
              </a:spcBef>
              <a:buClr>
                <a:srgbClr val="0b5395"/>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culates the Area of the square (length*length)</a:t>
            </a:r>
            <a:endParaRPr b="0" lang="en-US" sz="2400" spc="-1" strike="noStrike">
              <a:solidFill>
                <a:srgbClr val="000000"/>
              </a:solidFill>
              <a:latin typeface="Constantia"/>
            </a:endParaRPr>
          </a:p>
          <a:p>
            <a:pPr lvl="1" marL="851040" indent="-457200">
              <a:lnSpc>
                <a:spcPct val="100000"/>
              </a:lnSpc>
              <a:spcBef>
                <a:spcPts val="601"/>
              </a:spcBef>
              <a:buClr>
                <a:srgbClr val="0b5395"/>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culates the perimeter  of the square (4*length)</a:t>
            </a:r>
            <a:endParaRPr b="0" lang="en-US" sz="2400" spc="-1" strike="noStrike">
              <a:solidFill>
                <a:srgbClr val="000000"/>
              </a:solidFill>
              <a:latin typeface="Constantia"/>
            </a:endParaRPr>
          </a:p>
          <a:p>
            <a:pPr lvl="1" marL="851040" indent="-457200">
              <a:lnSpc>
                <a:spcPct val="100000"/>
              </a:lnSpc>
              <a:spcBef>
                <a:spcPts val="601"/>
              </a:spcBef>
              <a:buClr>
                <a:srgbClr val="0b5395"/>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plays a message </a:t>
            </a:r>
            <a:endParaRPr b="0" lang="en-US" sz="24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For a Square with length …., area= …., Perimeter=….</a:t>
            </a:r>
            <a:endParaRPr b="0" lang="en-US" sz="2100" spc="-1" strike="noStrike">
              <a:solidFill>
                <a:srgbClr val="000000"/>
              </a:solidFill>
              <a:latin typeface="Constantia"/>
            </a:endParaRPr>
          </a:p>
        </p:txBody>
      </p:sp>
      <p:sp>
        <p:nvSpPr>
          <p:cNvPr id="19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0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90577-0D37-4092-8E63-7778C8ABBF3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f Squar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length=6</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rea=length*length</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erimeter=4*length</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For Square with length", length ,"Area=", area, "Perimeter=", Perimeter</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0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0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0074C-5FED-4A25-8727-7E17DB72762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07" name="Rectangle 6"/>
          <p:cNvSpPr/>
          <p:nvPr/>
        </p:nvSpPr>
        <p:spPr>
          <a:xfrm>
            <a:off x="533520" y="1905120"/>
            <a:ext cx="7696080" cy="335268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at if I want the user to enter the length of the square?</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 Square(length):</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a=length*length</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erimeter=4*length</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w, you  can call your function with multiple lengths such as:   Square(7), Square(8.5), etc…</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is called </a:t>
            </a:r>
            <a:r>
              <a:rPr b="0" lang="en-US" sz="2400" spc="-1" strike="noStrike">
                <a:solidFill>
                  <a:srgbClr val="ff0000"/>
                </a:solidFill>
                <a:latin typeface="Times New Roman"/>
                <a:ea typeface="Times New Roman"/>
              </a:rPr>
              <a:t>Parameter Passing</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Times New Roman"/>
              </a:rPr>
              <a:t>Note:  For passing a string, you should use </a:t>
            </a:r>
            <a:r>
              <a:rPr b="0" lang="en-US" sz="2400" spc="-1" strike="noStrike">
                <a:solidFill>
                  <a:srgbClr val="ff0000"/>
                </a:solidFill>
                <a:latin typeface="Times New Roman"/>
                <a:ea typeface="Times New Roman"/>
              </a:rPr>
              <a:t>quotes</a:t>
            </a:r>
            <a:r>
              <a:rPr b="0" lang="en-US" sz="2400" spc="-1" strike="noStrike">
                <a:solidFill>
                  <a:srgbClr val="002060"/>
                </a:solidFill>
                <a:latin typeface="Times New Roman"/>
                <a:ea typeface="Times New Roman"/>
              </a:rPr>
              <a:t> e.g. printName(“Dina”)</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1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76EE-7565-43AB-B3E2-FD4E5C2DDC5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f-else condition</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f test1:</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atements1 </a:t>
            </a:r>
            <a:endParaRPr b="0" lang="en-US" sz="24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lif test2:</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atements2</a:t>
            </a:r>
            <a:endParaRPr b="0" lang="en-US" sz="24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lse:</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ements3 </a:t>
            </a:r>
            <a:endParaRPr b="0" lang="en-US" sz="24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Times New Roman"/>
              </a:rPr>
              <a:t>IMP:</a:t>
            </a:r>
            <a:endParaRPr b="0" lang="en-US" sz="26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n’t forget : after the condition</a:t>
            </a:r>
            <a:r>
              <a:rPr b="0" lang="en-US"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equal test, you must use “== “e.g. if x==y</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1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1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F83C-6E98-40F9-AB40-0148C402F40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a:t>
            </a:r>
            <a:endParaRPr b="0" lang="en-US" sz="5000" spc="-1" strike="noStrike">
              <a:solidFill>
                <a:srgbClr val="04617b"/>
              </a:solidFill>
              <a:latin typeface="Calibri"/>
            </a:endParaRPr>
          </a:p>
        </p:txBody>
      </p:sp>
      <p:sp>
        <p:nvSpPr>
          <p:cNvPr id="218" name=""/>
          <p:cNvSpPr txBox="1"/>
          <p:nvPr/>
        </p:nvSpPr>
        <p:spPr>
          <a:xfrm>
            <a:off x="457200" y="1523880"/>
            <a:ext cx="8229600" cy="5029200"/>
          </a:xfrm>
          <a:prstGeom prst="rect">
            <a:avLst/>
          </a:prstGeom>
          <a:noFill/>
          <a:ln w="0">
            <a:noFill/>
          </a:ln>
        </p:spPr>
        <p:txBody>
          <a:bodyPr anchor="t">
            <a:normAutofit fontScale="97000"/>
          </a:bodyPr>
          <a:p>
            <a:pPr marL="264600" indent="-26460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 function that compares two numbers x, y and prints “Equal” if x=y, “larger” if x&gt;y, and “smaller” if x&lt;y.</a:t>
            </a:r>
            <a:endParaRPr b="0" lang="en-US" sz="2600" spc="-1" strike="noStrike">
              <a:solidFill>
                <a:srgbClr val="000000"/>
              </a:solidFill>
              <a:latin typeface="Constantia"/>
            </a:endParaRPr>
          </a:p>
          <a:p>
            <a:pPr marL="264600" indent="-26460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ry testing using compare(6,7), compare(7,9), compare(0,0)</a:t>
            </a:r>
            <a:endParaRPr b="0" lang="en-US" sz="26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 compare(x,y):</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x==y:</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nt "Equal"</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lif x&gt;y:</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nt "Larger"</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lse:</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nt "Smaller"</a:t>
            </a:r>
            <a:endParaRPr b="0" lang="en-US" sz="2400" spc="-1" strike="noStrike">
              <a:solidFill>
                <a:srgbClr val="000000"/>
              </a:solidFill>
              <a:latin typeface="Constantia"/>
            </a:endParaRPr>
          </a:p>
          <a:p>
            <a:pPr lvl="1" marL="620280" indent="-23832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886680" indent="-23868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1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2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2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EF55F-C0E1-456E-B4F5-817B9B758EC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22" name="Rectangle 7"/>
          <p:cNvSpPr/>
          <p:nvPr/>
        </p:nvSpPr>
        <p:spPr>
          <a:xfrm>
            <a:off x="685800" y="3352680"/>
            <a:ext cx="3657600" cy="312444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odify your square function to check first if the length is greater than 0. In case that, it is less than or equal 0, your function should print an error message and it shouldn’t calculate the area or the perimeter.</a:t>
            </a:r>
            <a:endParaRPr b="0" lang="en-US" sz="2600" spc="-1" strike="noStrike">
              <a:solidFill>
                <a:srgbClr val="000000"/>
              </a:solidFill>
              <a:latin typeface="Constantia"/>
            </a:endParaRPr>
          </a:p>
        </p:txBody>
      </p:sp>
      <p:sp>
        <p:nvSpPr>
          <p:cNvPr id="22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2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2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07C9-C414-4137-B5BE-19E9CC586D8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swers</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f square(length):</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if length&lt;=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Error, length should be greater than 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ls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rea=length*length</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erimeter=4*length</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For a Square with length ", length, "Area=", area, "Perimeter=", perimeter</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3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D85B7-ABEE-4DB2-ABB4-32848B8BDD0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oops</a:t>
            </a:r>
            <a:endParaRPr b="0" lang="en-US" sz="5000" spc="-1" strike="noStrike">
              <a:solidFill>
                <a:srgbClr val="04617b"/>
              </a:solidFill>
              <a:latin typeface="Calibri"/>
            </a:endParaRPr>
          </a:p>
        </p:txBody>
      </p:sp>
      <p:sp>
        <p:nvSpPr>
          <p:cNvPr id="234" name=""/>
          <p:cNvSpPr txBox="1"/>
          <p:nvPr/>
        </p:nvSpPr>
        <p:spPr>
          <a:xfrm>
            <a:off x="456840" y="1934640"/>
            <a:ext cx="3429000" cy="4389480"/>
          </a:xfrm>
          <a:prstGeom prst="rect">
            <a:avLst/>
          </a:prstGeom>
          <a:noFill/>
          <a:ln w="0">
            <a:noFill/>
          </a:ln>
        </p:spPr>
        <p:txBody>
          <a:bodyPr anchor="t">
            <a:normAutofit fontScale="95000"/>
          </a:bodyPr>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or target in object: </a:t>
            </a:r>
            <a:endParaRPr b="0" lang="en-US" sz="2600" spc="-1" strike="noStrike">
              <a:solidFill>
                <a:srgbClr val="000000"/>
              </a:solidFill>
              <a:latin typeface="Constantia"/>
            </a:endParaRPr>
          </a:p>
          <a:p>
            <a:pPr lvl="1" marL="6076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ements </a:t>
            </a:r>
            <a:endParaRPr b="0" lang="en-US" sz="24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lse: statements</a:t>
            </a: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Times New Roman"/>
              </a:rPr>
              <a:t>Example: use loop to sum numbers in array (1,2,3,4)</a:t>
            </a: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Constantia"/>
            </a:endParaRPr>
          </a:p>
        </p:txBody>
      </p:sp>
      <p:sp>
        <p:nvSpPr>
          <p:cNvPr id="23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3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3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4F6D-CEC6-4A70-B5D4-C74D239B4AD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8" name="TextBox 6"/>
          <p:cNvSpPr/>
          <p:nvPr/>
        </p:nvSpPr>
        <p:spPr>
          <a:xfrm>
            <a:off x="4343400" y="2895480"/>
            <a:ext cx="3657600" cy="314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um=0</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 Sum=Sum + x= 0+1=1</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2 Sum=Sum + x= 1+2=3</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3 Sum=Sum + x= 3+3=6</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4 Sum=Sum + x= 6+4=10</a:t>
            </a:r>
            <a:endParaRPr b="0" lang="en-US" sz="2000" spc="-1" strike="noStrike">
              <a:solidFill>
                <a:srgbClr val="000000"/>
              </a:solidFill>
              <a:latin typeface="Arial"/>
            </a:endParaRPr>
          </a:p>
        </p:txBody>
      </p:sp>
      <p:cxnSp>
        <p:nvCxnSpPr>
          <p:cNvPr id="239" name="Straight Arrow Connector 11"/>
          <p:cNvCxnSpPr/>
          <p:nvPr/>
        </p:nvCxnSpPr>
        <p:spPr>
          <a:xfrm flipH="1">
            <a:off x="6781320" y="3962520"/>
            <a:ext cx="610560" cy="457920"/>
          </a:xfrm>
          <a:prstGeom prst="straightConnector1">
            <a:avLst/>
          </a:prstGeom>
          <a:ln w="9360">
            <a:solidFill>
              <a:srgbClr val="065093"/>
            </a:solidFill>
            <a:miter/>
            <a:tailEnd len="med" type="arrow" w="med"/>
          </a:ln>
        </p:spPr>
      </p:cxnSp>
      <p:cxnSp>
        <p:nvCxnSpPr>
          <p:cNvPr id="240" name="Straight Arrow Connector 13"/>
          <p:cNvCxnSpPr/>
          <p:nvPr/>
        </p:nvCxnSpPr>
        <p:spPr>
          <a:xfrm flipH="1">
            <a:off x="6781320" y="4572000"/>
            <a:ext cx="534240" cy="457920"/>
          </a:xfrm>
          <a:prstGeom prst="straightConnector1">
            <a:avLst/>
          </a:prstGeom>
          <a:ln w="9360">
            <a:solidFill>
              <a:srgbClr val="065093"/>
            </a:solidFill>
            <a:miter/>
            <a:tailEnd len="med" type="arrow" w="med"/>
          </a:ln>
        </p:spPr>
      </p:cxnSp>
      <p:cxnSp>
        <p:nvCxnSpPr>
          <p:cNvPr id="241" name="Straight Arrow Connector 15"/>
          <p:cNvCxnSpPr/>
          <p:nvPr/>
        </p:nvCxnSpPr>
        <p:spPr>
          <a:xfrm flipH="1">
            <a:off x="6781320" y="5181480"/>
            <a:ext cx="610560" cy="534240"/>
          </a:xfrm>
          <a:prstGeom prst="straightConnector1">
            <a:avLst/>
          </a:prstGeom>
          <a:ln w="9360">
            <a:solidFill>
              <a:srgbClr val="065093"/>
            </a:solidFill>
            <a:miter/>
            <a:tailEnd len="med" type="arrow" w="med"/>
          </a:ln>
        </p:spPr>
      </p:cxnSp>
      <p:cxnSp>
        <p:nvCxnSpPr>
          <p:cNvPr id="242" name="Straight Arrow Connector 19"/>
          <p:cNvCxnSpPr/>
          <p:nvPr/>
        </p:nvCxnSpPr>
        <p:spPr>
          <a:xfrm flipH="1">
            <a:off x="6705000" y="3352680"/>
            <a:ext cx="610200" cy="534240"/>
          </a:xfrm>
          <a:prstGeom prst="straightConnector1">
            <a:avLst/>
          </a:prstGeom>
          <a:ln w="9360">
            <a:solidFill>
              <a:srgbClr val="065093"/>
            </a:solidFill>
            <a:miter/>
            <a:tailEnd len="med" type="arrow" w="med"/>
          </a:ln>
        </p:spPr>
      </p:cxnSp>
      <p:sp>
        <p:nvSpPr>
          <p:cNvPr id="243" name="TextBox 21"/>
          <p:cNvSpPr/>
          <p:nvPr/>
        </p:nvSpPr>
        <p:spPr>
          <a:xfrm>
            <a:off x="4275720" y="1676520"/>
            <a:ext cx="2206440" cy="1465560"/>
          </a:xfrm>
          <a:prstGeom prst="rect">
            <a:avLst/>
          </a:prstGeom>
          <a:noFill/>
          <a:ln w="9360">
            <a:solidFill>
              <a:srgbClr val="04617b"/>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 in [1, 2, 3,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m = Sum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Su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5:23:28Z</dcterms:created>
  <dc:creator>Dina</dc:creator>
  <dc:description/>
  <dc:language>en-US</dc:language>
  <cp:lastModifiedBy>Information Technologies</cp:lastModifiedBy>
  <dcterms:modified xsi:type="dcterms:W3CDTF">2009-03-13T17:28:39Z</dcterms:modified>
  <cp:revision>193</cp:revision>
  <dc:subject/>
  <dc:title>CPSC 203</dc:title>
</cp:coreProperties>
</file>